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BB1B-FC32-4F6C-8992-B898D90EE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82C4-7B66-4395-AB0C-BF28D83F8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893E-F5D8-444C-AFDB-7BA22766B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E70B-7F0B-4E8A-984F-A3E4C586D5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4013-9D7E-4094-AB0A-DA139DB37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6142-AD46-41E2-911F-6EACED521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80B2-4A26-48CF-A19C-C6156BC4C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87E-0CB5-40A3-A4DD-4EEDD410B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6B66-135C-4BD5-BF36-2DDB1C750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7100-75A4-476C-A8FA-0792656FB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51C1-59DC-435C-9345-47C5F6F41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7D1B-B541-49C9-9419-B4ADCC57B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7202-918D-4988-AF3E-986FB7B7D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AC42-120C-40A5-BE2E-C284F70DA3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A558-9803-4472-B5F5-41F96147F1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E8D5-0D4B-4224-ADA2-95F42ED48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B172-BC77-4677-B7FB-CE2E4D228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0449-6B48-4324-B6D8-48726C944D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37B5-5D0F-4BCB-B527-3DEF234D9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9B7-2368-4026-BAA8-39A39BE0C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3D58-16F3-4A6A-B10D-5A252895E7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3A8-30EF-437F-B167-4EDDA31E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568-3A3C-47FA-8C17-22F51676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D5B-FF25-4468-85D4-1C85D61D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0B4-BDC4-4507-B6E7-9B6C824A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D31-6417-4D71-9222-DCBBA940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BF0-BABB-48C9-9183-5539A89D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E26-B46F-4332-8A0A-073486A8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755-1B4C-4049-A734-5CE918F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4D5-A829-419F-9035-C1A1C89D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58E-0FAE-4718-BDB0-9C10E36C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4B3-389E-47C0-8E83-8AE3909B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519-6A76-44DA-8D24-BDAC15BF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4004-EA56-42D0-9B46-9B2AD30B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school su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basic opinions about the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give your opinions on various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619280" y="3573360"/>
            <a:ext cx="59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9ff"/>
                </a:solidFill>
                <a:latin typeface="Comic Sans MS"/>
              </a:rPr>
              <a:t>el profesor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/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la profesora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s estricto /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ach_yelling_at_game_hg_clr"/>
          <p:cNvPicPr/>
          <p:nvPr/>
        </p:nvPicPr>
        <p:blipFill>
          <a:blip r:embed="rId1"/>
          <a:stretch/>
        </p:blipFill>
        <p:spPr>
          <a:xfrm>
            <a:off x="3348000" y="260280"/>
            <a:ext cx="26668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760" y="25718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 gusta el ing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és por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30200" y="37306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like English becaus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t i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28760" y="22147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 encanta la geogra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ía porque es intere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68360" y="328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really like Geography becaus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t i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er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28760" y="15717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does the “es”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68360" y="2349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is – so how many people / things is this referring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00040" y="3571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plural subjects e.g. las ma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áticas, we have to use “son” = they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28760" y="2286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dio las ma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átic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or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aburri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328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hate Maths because it is b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28760" y="20001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 gustan las matemátic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porque son divert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68360" y="328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like Science because it i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28760" y="20001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me gusta el esp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ñ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porque no me gusta el prof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71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don’t like Spanish because I don’t like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785880" y="0"/>
            <a:ext cx="7715160" cy="713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Mis opiniones de las asignat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qu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t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vertid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resant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burrid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úti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úti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áci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fíci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profesor es simpático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profesora es simpática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profesor es estrict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w give your opinions, IN FULL SENTENCES, on a minimum of 5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785880" y="1214280"/>
            <a:ext cx="7572240" cy="371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are going to move around 2 seats to your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the descriptions that person has writ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for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reements e.g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istoria ... aburrid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N for las matemá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a USEFUL advisory comment on the post-it and stick it on that person’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785880" y="1214280"/>
            <a:ext cx="7572240" cy="311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organise the following sent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anta el es porque me divertido franc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es simpática historia profesora la l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ografía difícil es muy la odio por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w write 3 of your own jumbled sentences to swap with a partn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042920" y="1484280"/>
            <a:ext cx="7416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por qu</a:t>
            </a: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é te gusta?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42960" y="714240"/>
            <a:ext cx="75009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be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a sheet of blank paper, recreate your school timetable in Span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es WRITTEN IN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tra vocab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 recre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 almuerz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list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dad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47640" y="3357720"/>
            <a:ext cx="698508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Comic Sans MS"/>
              </a:rPr>
              <a:t>porque es…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619280" y="3573360"/>
            <a:ext cx="597708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Comic Sans MS"/>
              </a:rPr>
              <a:t>divertid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aughing"/>
          <p:cNvPicPr/>
          <p:nvPr/>
        </p:nvPicPr>
        <p:blipFill>
          <a:blip r:embed="rId1"/>
          <a:stretch/>
        </p:blipFill>
        <p:spPr>
          <a:xfrm>
            <a:off x="3276720" y="1052640"/>
            <a:ext cx="2428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9280" y="3573360"/>
            <a:ext cx="597708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Comic Sans MS"/>
              </a:rPr>
              <a:t>aburrid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sleeping"/>
          <p:cNvPicPr/>
          <p:nvPr/>
        </p:nvPicPr>
        <p:blipFill>
          <a:blip r:embed="rId1"/>
          <a:stretch/>
        </p:blipFill>
        <p:spPr>
          <a:xfrm>
            <a:off x="3203640" y="1484280"/>
            <a:ext cx="2638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42920" y="4149720"/>
            <a:ext cx="705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boyraisinghand"/>
          <p:cNvPicPr/>
          <p:nvPr/>
        </p:nvPicPr>
        <p:blipFill>
          <a:blip r:embed="rId1"/>
          <a:stretch/>
        </p:blipFill>
        <p:spPr>
          <a:xfrm>
            <a:off x="3419640" y="1125360"/>
            <a:ext cx="2304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42920" y="4149720"/>
            <a:ext cx="705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út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onstruction_surveying_hg_clr"/>
          <p:cNvPicPr/>
          <p:nvPr/>
        </p:nvPicPr>
        <p:blipFill>
          <a:blip r:embed="rId1"/>
          <a:stretch/>
        </p:blipFill>
        <p:spPr>
          <a:xfrm>
            <a:off x="3276720" y="1268280"/>
            <a:ext cx="2590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000160" y="264312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omic Sans MS"/>
              </a:rPr>
              <a:t>fácil  / difíc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619280" y="3573360"/>
            <a:ext cx="59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9ff"/>
                </a:solidFill>
                <a:latin typeface="Comic Sans MS"/>
              </a:rPr>
              <a:t>el profesor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/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la profesora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s simp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ático /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thumbs up"/>
          <p:cNvPicPr/>
          <p:nvPr/>
        </p:nvPicPr>
        <p:blipFill>
          <a:blip r:embed="rId1"/>
          <a:stretch/>
        </p:blipFill>
        <p:spPr>
          <a:xfrm>
            <a:off x="3924360" y="189000"/>
            <a:ext cx="16556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3:58:30Z</dcterms:created>
  <dc:creator>Owner1</dc:creator>
  <dc:description/>
  <dc:language>en-US</dc:language>
  <cp:lastModifiedBy>Chris</cp:lastModifiedBy>
  <dcterms:modified xsi:type="dcterms:W3CDTF">2009-05-07T06:44:46Z</dcterms:modified>
  <cp:revision>7</cp:revision>
  <dc:subject/>
  <dc:title>Slide 1</dc:title>
</cp:coreProperties>
</file>